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jpeg" ContentType="image/jpeg"/>
  <Override PartName="/ppt/media/image9.jpeg" ContentType="image/jpeg"/>
  <Override PartName="/ppt/media/image7.wmf" ContentType="image/x-wmf"/>
  <Override PartName="/ppt/media/image6.wmf" ContentType="image/x-wmf"/>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A6EC-311C-4B85-8053-7F2C91E30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99% of the power generated in Indiana is derived from coal-fired plants. As byproduct, large amounts of CO2 and other flue-gases are produced from these facilities, as well as from other types of industry (i.e. steel mills, refineries, etc). Due to the potential environmental effects produced by the release of these gases, there is a need to find adequate sites for safely stor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logical formations represent the most appropriate sites for storing large volumes of CO2 and other flue-gases.  The deep brine-filled aquifers are considered to have the highest potential for CO2 sequestration, for that reason, an attempt to characterize one such aquifer is presented her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well-log data, TDS calculations for each zone of interest were performed and showed good correlation between both resistivity/porosity and Formation Factor meth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orosity intervals of less than 4 – 5%, the algorithms did not work correctly, and highly anomalous TDS values were ob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line corresponds to the 10,000 ppm TDS boundary according to Schnoebelen et al (1995).  Schconebelen’s line was constructed on the basis of the first appearance of TDS concentration greater than 10,000 ppm, regardless of the stratigraphic interval.  For that reason, the same line is shown in all diagrams to observe the correlation between Schnoebelen’s dataset and 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average TDS values for the Hunton aquifer, with the 10,000 ppm TDS boundary proposed by Schnoebelen et al (1995).  Good correlation between both datasets can be observ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thickness maps for the porous intervals of each zone of interest were gener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line corresponds, again, to the regional distribution of the Silurian Terre Haute reef bank according to Curt Ault et al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lurian section presents the largest porous thickness interval followed by the Lower Middle Devonian and Upper Middle Devonian respective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ynthesizes the net porous thickness of the Hunton aquifer in the study area by simply summing the individual porous unit thick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lide, the distribution of porosity for each zone of interest for the Hunton aquifer is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the zones with greater porosity are those in the Silurian and Lower Middle Devonian, in other words, the zones with dolomitic porosit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now to the end of this presentation, the overall procedure for calculation of net pore volume for one of the interest zones is presented, in this case the Upper Middle Devonian (North Vernon Limestone).  Finally, a summary of the total pore volume estimated for the Hunton aquifer of SW Indiana will be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osity estimated represents the total intergranular/intragranular volume predicted with the GIS gridding algorithm for the porous zones identified in three main intervals, one in Upper Middle Devonian, one in Lower Middle Devonian, and a Silurian on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net porous thickness map produced for the Upper Middle Devonian an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osity distribution, which presents a regional trend of decrease in porosity towards the bas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lculation consisted in multiplying the grids thickness, porosity, and area, using the grid module of ArcInfo, to obtain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id with discrete values of net pore space for each 2 by 2 Km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the pore space decreases with depth in the bas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pore volume calculated for the Upper Middle Devonian porous section is approximately 0.17 T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total estimated pore volume corresponds to the net void intergranular/intragranular space, and does not include fracture, vug, and karst porosity, which may significantly increase the available space for CO2 storag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divided into three main par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rief overview of the regional distribution of the Hunton aquifer in the study are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characteristics of the aquifer are presented, such as TDS, thickness of the porous intervals, and porosity of such interval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xample of the procedures followed to estimate the net pore volume available in the porous intervals describ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s presented here are the preliminary evaluation of a brine-filled aquif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lide we observe the calculation of Upper Middle Devonian presented before. It is also a summary for the three zones of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type of analysis was done for the other two intervals (Lower Middle Devonian, and Silur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 order to estimate the net pore volume for the Hunton aquifer, the individual volumes were added using the same ArcInfo Grid modul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a final value of net pore volume of nearly 1 TCF for the Hunton Aquifer in SW Indian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nton aquifer of SW Indiana has three porous zones, one in the Upper Middle Devonian, one in the Lower Middle Devonian, and one or two in the Siluria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the extent of the edge of the Devonian in Indiana, and the southernmost portion corresponds to the area where data was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nton aquifer was chosen for this study and corresponds to the Silurian-Devonian carbonate section of Indi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studies in the area from Rupp and Pennington (1987), Mitchell and Rupp (1994), and Schnoebelen et al (1995) provided data on the distribution of the total dissolved solids in Indiana, and particularly on the location of the 10,000 ppm TDS.  In such works, these authors suggested that the Silurian-Devonian stratigraphic section behaves as a single hydrodynamic un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dovician Maquoketa and Upper Devonian New Albany shales represent the vertical barriers to flow and are considered the confining units of the Hunton aqui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nton aquifer in Indiana is characterized by the lithostratigraphic units shown on the left column, with porous intervals particularly within the Upper-Middle Devonian (North Vernon limestone), and the dolomitic intervals of the Jeffersonville/Geneva, and the Silurian reefs.  The Silurian reefs are normally well developed in the upper Silurian Wabash Formation and the Salamonie dolom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stars represent intervals with dolomitic porosity.  Such type of porosity is clearly identified in density logs as will be shown in a couple of cross sections through the study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distribution of the data points used for this study.  A total of 38 wells with information down to the Cincinnatian were used to construct two cross-sections in order to observe the regional distribution of the Hunton facies and its 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ference, the outline of the Silurian Terre Haute reef bank (Ault et al., 1987) is shown; within these polygons, pinnacle reefs are irregularly distrib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A-A’ is based on well-log data from Greene, Daviess, Knox, Gibson, and Posey counti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porosity intervals are observed in some places, in particular those associated with dolomites and reef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high porosity intervals are rather discontinuous and patchy as expected in pinnacle re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porosity intervals are particularly well developed in Greene , Daviess, and Knox counties.  Porosity is drastically reduced with depth in the bas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nes with porosity higher than 5% were colored to observe the distribution of porosity in the bas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Devonian facies pinch out to the east.  In these facies, porosity is irregularly distribut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B – B’ includes information  from Jackson, Washington, Orange, Perry, and Spencer count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clearly indicates its proximity to the basin edge, showing considerable thinning of the carbonate facies.  Also note that porosity is also better developed in both dolomitic and non-dolomitic z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pper Middle Devonian, near the basin edge, good porosity is present, but decreases rapidly with depth in the bas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occurs for the Lower Middle Devonian, and Silur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Lower Devonian pinches out to the east as shown in the previous cross section (A –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s used in this study included readings from Geophysical well logs, particularly dual-induction and compensated density logs, which were used to characterize the Hunton aquifer.  The rationale for using density and resistivity logs was two-fol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o identify the porous intervals of the Middle Devonian and Silurian 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calculate the NaCl equivalent TDS concentration based on log-derived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 values were calculated with the porosity/resistivity and the Formation Factor methods (Rupp and Pennington, 198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isting information on brine chemistry from water sample analyses was not included in this study because it was not possible to establish accurately the specific porous zones within the Silurian-Devonian from which the samples were deriv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data were interpolated into grids with cells of 2 by 2 kilometers using the inverse distance weighted algorithm of the Spatial Analyst extension of ArcView 3.2.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d calculations (pore space, net thickness) were performed with the Grid module in ArcInf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80853-4018-41B2-BD45-478371C21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66EB1-48CC-4983-9DC3-14713A3B8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4A758-950A-4A1E-8DCF-28F716E79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F27BE-3A35-4A1E-999E-7C52ABB14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8890E-BE11-4C63-BBAE-1BABFF157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DB37A-F628-4A7A-91A3-299386F6F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A5DD6-1ADB-422B-99D7-DE34E1F00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7E340-5B64-4E79-904F-1C81AB1E7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DD6D5-36DA-471B-8BEF-06BDC6BA7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24230-9B1E-4E86-B844-B61CFA7F0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F7B8C-D6B9-4153-989A-29EF2F0D2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47435-A457-4CB1-8B3B-2F8C84D26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0750-51FC-4BFD-B688-E8AF97B989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1295280"/>
            <a:ext cx="73152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cterization of a Deep Saline Aquifer for CO</a:t>
            </a:r>
            <a:r>
              <a:rPr b="0" lang="en-US" sz="2400" spc="-1" strike="noStrike">
                <a:solidFill>
                  <a:srgbClr val="000000"/>
                </a:solidFill>
                <a:latin typeface="Arial"/>
              </a:rPr>
              <a:t>2</a:t>
            </a:r>
            <a:r>
              <a:rPr b="0" lang="en-US" sz="4000" spc="-1" strike="noStrike">
                <a:solidFill>
                  <a:srgbClr val="000000"/>
                </a:solidFill>
                <a:latin typeface="Arial"/>
              </a:rPr>
              <a:t> Sequestration in Indiana:</a:t>
            </a:r>
            <a:endParaRPr b="0" lang="en-US" sz="4000" spc="-1" strike="noStrike">
              <a:solidFill>
                <a:srgbClr val="000000"/>
              </a:solidFill>
              <a:latin typeface="Arial"/>
            </a:endParaRPr>
          </a:p>
        </p:txBody>
      </p:sp>
      <p:sp>
        <p:nvSpPr>
          <p:cNvPr id="49" name="PlaceHolder 2"/>
          <p:cNvSpPr>
            <a:spLocks noGrp="1"/>
          </p:cNvSpPr>
          <p:nvPr>
            <p:ph type="subTitle"/>
          </p:nvPr>
        </p:nvSpPr>
        <p:spPr>
          <a:xfrm>
            <a:off x="1142640" y="3428640"/>
            <a:ext cx="70866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tegrated Geology/GIS Approach</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p:nvPr/>
        </p:nvSpPr>
        <p:spPr>
          <a:xfrm>
            <a:off x="1447920" y="4419720"/>
            <a:ext cx="6476760" cy="197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frido Solano-Acost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han K. Eat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ana Geological Surv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ana University, Bloomingt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 descr=""/>
          <p:cNvPicPr/>
          <p:nvPr/>
        </p:nvPicPr>
        <p:blipFill>
          <a:blip r:embed="rId1"/>
          <a:stretch/>
        </p:blipFill>
        <p:spPr>
          <a:xfrm>
            <a:off x="6629400" y="4419720"/>
            <a:ext cx="1512720" cy="1522440"/>
          </a:xfrm>
          <a:prstGeom prst="rect">
            <a:avLst/>
          </a:prstGeom>
          <a:ln w="0">
            <a:noFill/>
          </a:ln>
        </p:spPr>
      </p:pic>
      <p:pic>
        <p:nvPicPr>
          <p:cNvPr id="52" name="" descr=""/>
          <p:cNvPicPr/>
          <p:nvPr/>
        </p:nvPicPr>
        <p:blipFill>
          <a:blip r:embed="rId2"/>
          <a:stretch/>
        </p:blipFill>
        <p:spPr>
          <a:xfrm>
            <a:off x="1295280" y="441972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798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pore Volume Calculation</a:t>
            </a:r>
            <a:endParaRPr b="0" lang="en-US" sz="4400" spc="-1" strike="noStrike">
              <a:solidFill>
                <a:srgbClr val="000000"/>
              </a:solidFill>
              <a:latin typeface="Arial"/>
            </a:endParaRPr>
          </a:p>
        </p:txBody>
      </p:sp>
      <p:sp>
        <p:nvSpPr>
          <p:cNvPr id="79" name="PlaceHolder 2"/>
          <p:cNvSpPr>
            <a:spLocks noGrp="1"/>
          </p:cNvSpPr>
          <p:nvPr>
            <p:ph/>
          </p:nvPr>
        </p:nvSpPr>
        <p:spPr>
          <a:xfrm>
            <a:off x="457200" y="3124080"/>
            <a:ext cx="8229600" cy="1828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304920" y="45720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pore volume           ~ 0.17 TC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uifer characteriz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ckness (of porous zo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osit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net pore volume (for CO</a:t>
            </a:r>
            <a:r>
              <a:rPr b="0" lang="en-US" sz="3200" spc="-1" strike="noStrike" baseline="-25000">
                <a:solidFill>
                  <a:srgbClr val="000000"/>
                </a:solidFill>
                <a:latin typeface="Arial"/>
              </a:rPr>
              <a:t>2</a:t>
            </a:r>
            <a:r>
              <a:rPr b="0" lang="en-US" sz="3200" spc="-1" strike="noStrike">
                <a:solidFill>
                  <a:srgbClr val="000000"/>
                </a:solidFill>
                <a:latin typeface="Arial"/>
              </a:rPr>
              <a:t> stor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304920" y="45720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pore volume           ~ 1 TC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89"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ton aquifer</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per Middle Devonia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Middle Devonia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urian Reefs</a:t>
            </a:r>
            <a:endParaRPr b="0" lang="en-US" sz="24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DS</a:t>
            </a:r>
            <a:r>
              <a:rPr b="0" lang="en-US" sz="2400" spc="-1" strike="noStrike">
                <a:solidFill>
                  <a:srgbClr val="000000"/>
                </a:solidFill>
                <a:latin typeface="Arial"/>
              </a:rPr>
              <a:t> distribution observed correlates well with the 10,000 ppm line proposed by Schnoebelen et al (1995)</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CF</a:t>
            </a:r>
            <a:r>
              <a:rPr b="0" lang="en-US" sz="2400" spc="-1" strike="noStrike">
                <a:solidFill>
                  <a:srgbClr val="000000"/>
                </a:solidFill>
                <a:latin typeface="Arial"/>
              </a:rPr>
              <a:t> of net pore volume is available in the Hunton aquifer for CO</a:t>
            </a:r>
            <a:r>
              <a:rPr b="0" lang="en-US" sz="1600" spc="-1" strike="noStrike">
                <a:solidFill>
                  <a:srgbClr val="000000"/>
                </a:solidFill>
                <a:latin typeface="Arial"/>
              </a:rPr>
              <a:t>2</a:t>
            </a:r>
            <a:r>
              <a:rPr b="0" lang="en-US" sz="2400" spc="-1" strike="noStrike">
                <a:solidFill>
                  <a:srgbClr val="000000"/>
                </a:solidFill>
                <a:latin typeface="Arial"/>
              </a:rPr>
              <a:t> sequestration in the study are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295280"/>
            <a:ext cx="73152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cterization of a Deep Saline Aquifer for CO</a:t>
            </a:r>
            <a:r>
              <a:rPr b="0" lang="en-US" sz="2400" spc="-1" strike="noStrike">
                <a:solidFill>
                  <a:srgbClr val="000000"/>
                </a:solidFill>
                <a:latin typeface="Arial"/>
              </a:rPr>
              <a:t>2</a:t>
            </a:r>
            <a:r>
              <a:rPr b="0" lang="en-US" sz="4000" spc="-1" strike="noStrike">
                <a:solidFill>
                  <a:srgbClr val="000000"/>
                </a:solidFill>
                <a:latin typeface="Arial"/>
              </a:rPr>
              <a:t> Sequestration in Indiana:</a:t>
            </a:r>
            <a:endParaRPr b="0" lang="en-US" sz="4000" spc="-1" strike="noStrike">
              <a:solidFill>
                <a:srgbClr val="000000"/>
              </a:solidFill>
              <a:latin typeface="Arial"/>
            </a:endParaRPr>
          </a:p>
        </p:txBody>
      </p:sp>
      <p:sp>
        <p:nvSpPr>
          <p:cNvPr id="91" name="PlaceHolder 2"/>
          <p:cNvSpPr>
            <a:spLocks noGrp="1"/>
          </p:cNvSpPr>
          <p:nvPr>
            <p:ph type="subTitle"/>
          </p:nvPr>
        </p:nvSpPr>
        <p:spPr>
          <a:xfrm>
            <a:off x="1142640" y="3428640"/>
            <a:ext cx="70866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tegrated Geology/GIS Approach</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
          <p:cNvSpPr/>
          <p:nvPr/>
        </p:nvSpPr>
        <p:spPr>
          <a:xfrm>
            <a:off x="1447920" y="4419720"/>
            <a:ext cx="6476760" cy="170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frido Solano-Acost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han K. Eat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ana Geological Surve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 descr=""/>
          <p:cNvPicPr/>
          <p:nvPr/>
        </p:nvPicPr>
        <p:blipFill>
          <a:blip r:embed="rId1"/>
          <a:stretch/>
        </p:blipFill>
        <p:spPr>
          <a:xfrm>
            <a:off x="6629400" y="4419720"/>
            <a:ext cx="1512720" cy="1522440"/>
          </a:xfrm>
          <a:prstGeom prst="rect">
            <a:avLst/>
          </a:prstGeom>
          <a:ln w="0">
            <a:noFill/>
          </a:ln>
        </p:spPr>
      </p:pic>
      <p:pic>
        <p:nvPicPr>
          <p:cNvPr id="94" name="" descr=""/>
          <p:cNvPicPr/>
          <p:nvPr/>
        </p:nvPicPr>
        <p:blipFill>
          <a:blip r:embed="rId2"/>
          <a:stretch/>
        </p:blipFill>
        <p:spPr>
          <a:xfrm>
            <a:off x="1295280" y="441972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49360" y="152280"/>
            <a:ext cx="4667040" cy="6553440"/>
          </a:xfrm>
          <a:prstGeom prst="rect">
            <a:avLst/>
          </a:prstGeom>
          <a:ln w="0">
            <a:noFill/>
          </a:ln>
        </p:spPr>
      </p:pic>
      <p:grpSp>
        <p:nvGrpSpPr>
          <p:cNvPr id="57" name=""/>
          <p:cNvGrpSpPr/>
          <p:nvPr/>
        </p:nvGrpSpPr>
        <p:grpSpPr>
          <a:xfrm>
            <a:off x="5645160" y="1004760"/>
            <a:ext cx="2736360" cy="3173400"/>
            <a:chOff x="5645160" y="1004760"/>
            <a:chExt cx="2736360" cy="3173400"/>
          </a:xfrm>
        </p:grpSpPr>
        <p:sp>
          <p:nvSpPr>
            <p:cNvPr id="58" name=""/>
            <p:cNvSpPr/>
            <p:nvPr/>
          </p:nvSpPr>
          <p:spPr>
            <a:xfrm>
              <a:off x="5645880" y="1004760"/>
              <a:ext cx="272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per Middle Devonian</a:t>
              </a:r>
              <a:endParaRPr b="0" lang="en-US" sz="1800" spc="-1" strike="noStrike">
                <a:solidFill>
                  <a:srgbClr val="000000"/>
                </a:solidFill>
                <a:latin typeface="Arial"/>
              </a:endParaRPr>
            </a:p>
          </p:txBody>
        </p:sp>
        <p:sp>
          <p:nvSpPr>
            <p:cNvPr id="59" name=""/>
            <p:cNvSpPr/>
            <p:nvPr/>
          </p:nvSpPr>
          <p:spPr>
            <a:xfrm>
              <a:off x="5645160" y="1600200"/>
              <a:ext cx="273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er Middle Devonian</a:t>
              </a:r>
              <a:endParaRPr b="0" lang="en-US" sz="1800" spc="-1" strike="noStrike">
                <a:solidFill>
                  <a:srgbClr val="000000"/>
                </a:solidFill>
                <a:latin typeface="Arial"/>
              </a:endParaRPr>
            </a:p>
          </p:txBody>
        </p:sp>
        <p:sp>
          <p:nvSpPr>
            <p:cNvPr id="60" name=""/>
            <p:cNvSpPr/>
            <p:nvPr/>
          </p:nvSpPr>
          <p:spPr>
            <a:xfrm>
              <a:off x="5779080" y="3809880"/>
              <a:ext cx="102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lurian</a:t>
              </a:r>
              <a:endParaRPr b="0" lang="en-US" sz="1800" spc="-1" strike="noStrike">
                <a:solidFill>
                  <a:srgbClr val="000000"/>
                </a:solidFill>
                <a:latin typeface="Arial"/>
              </a:endParaRPr>
            </a:p>
          </p:txBody>
        </p:sp>
      </p:grpSp>
      <p:grpSp>
        <p:nvGrpSpPr>
          <p:cNvPr id="61" name=""/>
          <p:cNvGrpSpPr/>
          <p:nvPr/>
        </p:nvGrpSpPr>
        <p:grpSpPr>
          <a:xfrm>
            <a:off x="3492000" y="1219320"/>
            <a:ext cx="2057760" cy="3352680"/>
            <a:chOff x="3492000" y="1219320"/>
            <a:chExt cx="2057760" cy="3352680"/>
          </a:xfrm>
        </p:grpSpPr>
        <p:sp>
          <p:nvSpPr>
            <p:cNvPr id="62" name=""/>
            <p:cNvSpPr/>
            <p:nvPr/>
          </p:nvSpPr>
          <p:spPr>
            <a:xfrm flipH="1">
              <a:off x="3492000" y="1219320"/>
              <a:ext cx="2057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3492000" y="1752480"/>
              <a:ext cx="2057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3492000" y="3429000"/>
              <a:ext cx="2057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3492000" y="4572000"/>
              <a:ext cx="2057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549760" y="34290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61"/>
                                        </p:tgtEl>
                                        <p:attrNameLst>
                                          <p:attrName>style.visibility</p:attrName>
                                        </p:attrNameLst>
                                      </p:cBhvr>
                                      <p:to>
                                        <p:strVal val="visible"/>
                                      </p:to>
                                    </p:set>
                                    <p:animEffect filter="wipe(right)" transition="in">
                                      <p:cBhvr additive="repl">
                                        <p:cTn id="7" dur="500"/>
                                        <p:tgtEl>
                                          <p:spTgt spid="61"/>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4920" y="52560"/>
            <a:ext cx="8534160" cy="67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55520" y="176040"/>
            <a:ext cx="8836200" cy="642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physical well log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al induction (resistiv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nsated densit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osity/Resistivity and Formation Fact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d analys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View Spatial Analy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Info Grid modu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17" dur="500"/>
                                        <p:tgtEl>
                                          <p:spTgt spid="72">
                                            <p:txEl>
                                              <p:pRg st="0" end="0"/>
                                            </p:txEl>
                                          </p:spTgt>
                                        </p:tgtEl>
                                      </p:cBhvr>
                                    </p:animEffect>
                                  </p:childTnLst>
                                </p:cTn>
                              </p:par>
                              <p:par>
                                <p:cTn id="18" nodeType="withEffect" fill="hold" presetClass="entr" presetID="9">
                                  <p:stCondLst>
                                    <p:cond delay="0"/>
                                  </p:stCondLst>
                                  <p:childTnLst>
                                    <p:set>
                                      <p:cBhvr>
                                        <p:cTn id="19"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20" dur="500"/>
                                        <p:tgtEl>
                                          <p:spTgt spid="72">
                                            <p:txEl>
                                              <p:pRg st="1" end="1"/>
                                            </p:txEl>
                                          </p:spTgt>
                                        </p:tgtEl>
                                      </p:cBhvr>
                                    </p:animEffect>
                                  </p:childTnLst>
                                </p:cTn>
                              </p:par>
                              <p:par>
                                <p:cTn id="21" nodeType="withEffect" fill="hold" presetClass="entr" presetID="9">
                                  <p:stCondLst>
                                    <p:cond delay="0"/>
                                  </p:stCondLst>
                                  <p:childTnLst>
                                    <p:set>
                                      <p:cBhvr>
                                        <p:cTn id="22"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23" dur="500"/>
                                        <p:tgtEl>
                                          <p:spTgt spid="7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28" dur="500"/>
                                        <p:tgtEl>
                                          <p:spTgt spid="72">
                                            <p:txEl>
                                              <p:pRg st="4" end="4"/>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72">
                                            <p:txEl>
                                              <p:pRg st="6" end="6"/>
                                            </p:txEl>
                                          </p:spTgt>
                                        </p:tgtEl>
                                        <p:attrNameLst>
                                          <p:attrName>style.visibility</p:attrName>
                                        </p:attrNameLst>
                                      </p:cBhvr>
                                      <p:to>
                                        <p:strVal val="visible"/>
                                      </p:to>
                                    </p:set>
                                    <p:animEffect filter="dissolve" transition="in">
                                      <p:cBhvr additive="repl">
                                        <p:cTn id="33" dur="500"/>
                                        <p:tgtEl>
                                          <p:spTgt spid="72">
                                            <p:txEl>
                                              <p:pRg st="6" end="6"/>
                                            </p:txEl>
                                          </p:spTgt>
                                        </p:tgtEl>
                                      </p:cBhvr>
                                    </p:animEffect>
                                  </p:childTnLst>
                                </p:cTn>
                              </p:par>
                              <p:par>
                                <p:cTn id="34" nodeType="withEffect" fill="hold" presetClass="entr" presetID="9">
                                  <p:stCondLst>
                                    <p:cond delay="0"/>
                                  </p:stCondLst>
                                  <p:childTnLst>
                                    <p:set>
                                      <p:cBhvr>
                                        <p:cTn id="35" dur="1" fill="hold">
                                          <p:stCondLst>
                                            <p:cond delay="0"/>
                                          </p:stCondLst>
                                        </p:cTn>
                                        <p:tgtEl>
                                          <p:spTgt spid="72">
                                            <p:txEl>
                                              <p:pRg st="7" end="7"/>
                                            </p:txEl>
                                          </p:spTgt>
                                        </p:tgtEl>
                                        <p:attrNameLst>
                                          <p:attrName>style.visibility</p:attrName>
                                        </p:attrNameLst>
                                      </p:cBhvr>
                                      <p:to>
                                        <p:strVal val="visible"/>
                                      </p:to>
                                    </p:set>
                                    <p:animEffect filter="dissolve" transition="in">
                                      <p:cBhvr additive="repl">
                                        <p:cTn id="36" dur="500"/>
                                        <p:tgtEl>
                                          <p:spTgt spid="72">
                                            <p:txEl>
                                              <p:pRg st="7" end="7"/>
                                            </p:txEl>
                                          </p:spTgt>
                                        </p:tgtEl>
                                      </p:cBhvr>
                                    </p:animEffect>
                                  </p:childTnLst>
                                </p:cTn>
                              </p:par>
                              <p:par>
                                <p:cTn id="37" nodeType="withEffect" fill="hold" presetClass="entr" presetID="9">
                                  <p:stCondLst>
                                    <p:cond delay="0"/>
                                  </p:stCondLst>
                                  <p:childTnLst>
                                    <p:set>
                                      <p:cBhvr>
                                        <p:cTn id="38" dur="1" fill="hold">
                                          <p:stCondLst>
                                            <p:cond delay="0"/>
                                          </p:stCondLst>
                                        </p:cTn>
                                        <p:tgtEl>
                                          <p:spTgt spid="72">
                                            <p:txEl>
                                              <p:pRg st="8" end="8"/>
                                            </p:txEl>
                                          </p:spTgt>
                                        </p:tgtEl>
                                        <p:attrNameLst>
                                          <p:attrName>style.visibility</p:attrName>
                                        </p:attrNameLst>
                                      </p:cBhvr>
                                      <p:to>
                                        <p:strVal val="visible"/>
                                      </p:to>
                                    </p:set>
                                    <p:animEffect filter="dissolve" transition="in">
                                      <p:cBhvr additive="repl">
                                        <p:cTn id="39" dur="500"/>
                                        <p:tgtEl>
                                          <p:spTgt spid="7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9T14:16:46Z</dcterms:created>
  <dc:creator>Nathan K. Eaton</dc:creator>
  <dc:description/>
  <dc:language>en-US</dc:language>
  <cp:lastModifiedBy>drahovzal</cp:lastModifiedBy>
  <dcterms:modified xsi:type="dcterms:W3CDTF">2002-04-11T20:41:40Z</dcterms:modified>
  <cp:revision>77</cp:revision>
  <dc:subject/>
  <dc:title>Characterization of a Deep Saline Aquifer for CO2 Sequestration in India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42812334</vt:r8>
  </property>
  <property fmtid="{D5CDD505-2E9C-101B-9397-08002B2CF9AE}" pid="3" name="_AuthorEmail">
    <vt:lpwstr>wsolano@indiana.edu</vt:lpwstr>
  </property>
  <property fmtid="{D5CDD505-2E9C-101B-9397-08002B2CF9AE}" pid="4" name="_AuthorEmailDisplayName">
    <vt:lpwstr>Solano, Wilfrido</vt:lpwstr>
  </property>
  <property fmtid="{D5CDD505-2E9C-101B-9397-08002B2CF9AE}" pid="5" name="_EmailSubject">
    <vt:lpwstr>CO2 papers</vt:lpwstr>
  </property>
</Properties>
</file>